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FC1-0800-4B89-B46F-E243C64B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FA5-F8F4-4492-969E-3697B876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F0E-B3BC-4633-845B-BC25BDD9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986-5BCA-4601-BF8F-31474A60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3E8-731B-472A-951B-4220868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952-92BB-4A77-AC99-706E403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E52-DD0B-49A3-9D97-1AFD53A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FB5-31B1-48B4-998A-58B4C46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AD3-1CC3-432F-8DE3-2F5FEA2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A35-F535-487E-AE07-1DA9D06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8A9-A565-4482-B4A7-9579F6F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44F-AEBE-43E9-86E4-431BBF9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F7A1-C3E4-4FA3-B407-1C8AED101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ystem of Monitoring and Evaluating “TOM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74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5000" y="762120"/>
            <a:ext cx="88758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5920" y="380880"/>
            <a:ext cx="891396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00" y="380880"/>
            <a:ext cx="88502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883908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71440"/>
            <a:ext cx="9372600" cy="64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8:57:26Z</dcterms:created>
  <dc:creator>Stephanie Mullen</dc:creator>
  <dc:description/>
  <dc:language>en-US</dc:language>
  <cp:lastModifiedBy>Carolina Population Center</cp:lastModifiedBy>
  <dcterms:modified xsi:type="dcterms:W3CDTF">2006-11-09T16:05:26Z</dcterms:modified>
  <cp:revision>2</cp:revision>
  <dc:subject/>
  <dc:title>System of monitoring and evaluating “TOMA”</dc:title>
</cp:coreProperties>
</file>